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897-7554-4C82-9A8B-B9251C64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1AB-8D43-40B2-850D-ECBFB463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0CB-D4CA-4338-B7DD-3C12AAB1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388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30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388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30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8A2-391C-4D7B-A731-996E6C2D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E0E-DF5B-442C-ADD0-1CB04D32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440-72CF-4896-A7DF-12C223E8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48E-E0AE-4940-A0BE-353A7547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11C-622B-431D-8E71-F5FCE5BC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727-D048-41A7-811D-FBACD91D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E27-CD8C-406E-BB01-181FA0C1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A36-E01C-4A8F-A9C2-BA6C8546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6F7-E36F-40D6-9519-74BCC7AF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E804-8676-4FEE-BC93-0A4C671594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08000" y="658008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中国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29:43Z</dcterms:modified>
  <cp:revision>51</cp:revision>
  <dc:subject/>
  <dc:title>幻灯片 1</dc:title>
</cp:coreProperties>
</file>